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5B4-938D-4038-BE20-A61B6056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6DD-DAD1-46D6-A374-1C7F59CC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888-0DE7-41CE-8FFC-E69DD40E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D84-6124-4BD7-A7AF-BB20E1BD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BEB-E6FD-4A9D-8D31-4B37ED15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79B-3E5E-49A3-B640-17DAE7D0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7D4-0205-492E-AB43-B97A8FA1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FD0-D8CF-409B-8381-AA229555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AD4-0955-409E-B1BC-FF78535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2BB-5E17-449A-BB47-46D0B3AA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4F7-0BB3-4095-B466-4B01A593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094-48B0-460C-8B3D-4BDBB0E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752D-78D8-440C-A5E5-FFBC7F8D2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Dean Zampelli</cp:lastModifiedBy>
  <dcterms:modified xsi:type="dcterms:W3CDTF">2009-03-15T21:36:30Z</dcterms:modified>
  <cp:revision>7</cp:revision>
  <dc:subject/>
  <dc:title>Wheel of Fortune</dc:title>
</cp:coreProperties>
</file>